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29C-00A3-4D1C-8388-A9AEDD6A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55C-17CE-4916-BCE2-684AB5CF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44F-0FA3-4670-AC0F-20E3708F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239-7B2C-4D23-A422-587B2787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F97-5FB8-46DF-80F4-169AFF7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C03-2089-4B2C-8AA4-29A3E45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3F5-595B-40AD-9CBB-5F81CB2D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532-7F5B-4FA5-96D5-F246375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304-E5D2-4ED8-926F-94E9F604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D63-EEFF-41EC-BFED-12871FD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D2C-CFF2-4CDA-9B36-8198019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8B1-C4DE-40D9-BAF3-00C57C3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677-89EA-47F7-B683-6B9167CFD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3"/>
          <p:cNvSpPr/>
          <p:nvPr/>
        </p:nvSpPr>
        <p:spPr>
          <a:xfrm>
            <a:off x="760320" y="152280"/>
            <a:ext cx="762012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teractions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iving Th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tent Placeholder 4"/>
          <p:cNvSpPr/>
          <p:nvPr/>
        </p:nvSpPr>
        <p:spPr>
          <a:xfrm>
            <a:off x="760320" y="2692440"/>
            <a:ext cx="7391520" cy="9144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omplete your Vocabulary Cha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 we go through the PowerPo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t3.gstatic.com/images?q=tbn:ANd9GcR8rOSPokMaVBJyX01nW315iRtocP8W8Wp3Su2ULuBzMPDt04dTAQ"/>
          <p:cNvPicPr/>
          <p:nvPr/>
        </p:nvPicPr>
        <p:blipFill>
          <a:blip r:embed="rId1"/>
          <a:stretch/>
        </p:blipFill>
        <p:spPr>
          <a:xfrm>
            <a:off x="2171880" y="3886200"/>
            <a:ext cx="4568760" cy="27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58680"/>
            <a:ext cx="480060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4. Detrit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4724280"/>
            <a:ext cx="8001000" cy="19814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dead organisms (or feces) for food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audubon-taming-the-wild-mushroom.jpg"/>
          <p:cNvPicPr/>
          <p:nvPr/>
        </p:nvPicPr>
        <p:blipFill>
          <a:blip r:embed="rId1"/>
          <a:stretch/>
        </p:blipFill>
        <p:spPr>
          <a:xfrm>
            <a:off x="152280" y="1447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Worms.JPG"/>
          <p:cNvPicPr/>
          <p:nvPr/>
        </p:nvPicPr>
        <p:blipFill>
          <a:blip r:embed="rId2"/>
          <a:stretch/>
        </p:blipFill>
        <p:spPr>
          <a:xfrm>
            <a:off x="5486400" y="1447920"/>
            <a:ext cx="3475080" cy="25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acteria.jpg"/>
          <p:cNvPicPr/>
          <p:nvPr/>
        </p:nvPicPr>
        <p:blipFill>
          <a:blip r:embed="rId3"/>
          <a:stretch/>
        </p:blipFill>
        <p:spPr>
          <a:xfrm>
            <a:off x="3276720" y="2590920"/>
            <a:ext cx="2514600" cy="211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arasi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960" y="609120"/>
            <a:ext cx="3352680" cy="5791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An organism that lives on or in another organism, stealing its nutrients (food), and causing it harm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330228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07080" y="3581280"/>
            <a:ext cx="3467160" cy="23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205740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6781680" y="1447920"/>
            <a:ext cx="223524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380520"/>
            <a:ext cx="3353040" cy="5791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y organism that is being fed upon by a parasi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1371600" y="4330800"/>
            <a:ext cx="3213000" cy="252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3125880" cy="236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t1.gstatic.com/images?q=tbn:ANd9GcTaJ25mDZrJd-Rajrz_Xo8d4OoIQGQgS3BHD0TSZnSKrFz2wv5aEw"/>
          <p:cNvPicPr/>
          <p:nvPr/>
        </p:nvPicPr>
        <p:blipFill>
          <a:blip r:embed="rId1"/>
          <a:stretch/>
        </p:blipFill>
        <p:spPr>
          <a:xfrm>
            <a:off x="5181480" y="3384720"/>
            <a:ext cx="4114800" cy="3265200"/>
          </a:xfrm>
          <a:prstGeom prst="rect">
            <a:avLst/>
          </a:prstGeom>
          <a:ln w="0">
            <a:noFill/>
          </a:ln>
        </p:spPr>
      </p:pic>
      <p:sp>
        <p:nvSpPr>
          <p:cNvPr id="86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1920" y="1447560"/>
            <a:ext cx="5791320" cy="47545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travels in one direction with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 an organism is eaten only a small portion of its energy 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~10%!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is passed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means more organisms need to be at the base of a food chain than at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560" y="1295280"/>
            <a:ext cx="4343400" cy="55627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ms get energy from food. If that organism is eaten than its energy is passed 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OD CHA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path that energy takes from one organism to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foodchain.jpg"/>
          <p:cNvPicPr/>
          <p:nvPr/>
        </p:nvPicPr>
        <p:blipFill>
          <a:blip r:embed="rId1"/>
          <a:stretch/>
        </p:blipFill>
        <p:spPr>
          <a:xfrm>
            <a:off x="5332320" y="2743200"/>
            <a:ext cx="3490920" cy="380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098880" cy="125712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4"/>
          <p:cNvSpPr/>
          <p:nvPr/>
        </p:nvSpPr>
        <p:spPr>
          <a:xfrm>
            <a:off x="2362320" y="228600"/>
            <a:ext cx="434340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76920" y="1371240"/>
            <a:ext cx="4038480" cy="48006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most ecosystems, organisms eat more than one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OD WE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many connected food chains showing feeding relationships 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food web picture.jpg"/>
          <p:cNvPicPr/>
          <p:nvPr/>
        </p:nvPicPr>
        <p:blipFill>
          <a:blip r:embed="rId1"/>
          <a:stretch/>
        </p:blipFill>
        <p:spPr>
          <a:xfrm>
            <a:off x="146160" y="1600200"/>
            <a:ext cx="4654440" cy="4448160"/>
          </a:xfrm>
          <a:prstGeom prst="rect">
            <a:avLst/>
          </a:prstGeom>
          <a:ln w="0">
            <a:noFill/>
          </a:ln>
        </p:spPr>
      </p:pic>
      <p:sp>
        <p:nvSpPr>
          <p:cNvPr id="94" name="Content Placeholder 4"/>
          <p:cNvSpPr/>
          <p:nvPr/>
        </p:nvSpPr>
        <p:spPr>
          <a:xfrm>
            <a:off x="2209680" y="228600"/>
            <a:ext cx="419112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219320"/>
            <a:ext cx="8686800" cy="32004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thing that causes a population to stop grow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omething that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MITS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the number of organisms that can l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ten resources that organisms must have to survive and reprodu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food, space, water, temperature, sunlight, predators, and shel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374840" y="4648320"/>
            <a:ext cx="2981160" cy="204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895480" cy="19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ontent Placeholder 4"/>
          <p:cNvSpPr/>
          <p:nvPr/>
        </p:nvSpPr>
        <p:spPr>
          <a:xfrm>
            <a:off x="1981080" y="228600"/>
            <a:ext cx="5410440" cy="86832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ry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18960"/>
            <a:ext cx="8686800" cy="25146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ximum number of organisms that an ecosystem can support (keep aliv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If there are too many deer, there will not be enough food, and many will not live through the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00600" y="4043520"/>
            <a:ext cx="4191120" cy="2814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427356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32767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eda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3760" y="1905120"/>
            <a:ext cx="3352680" cy="35812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hunts, kills and eats another organism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JLM-wolves-(1024x768).jpg"/>
          <p:cNvPicPr/>
          <p:nvPr/>
        </p:nvPicPr>
        <p:blipFill>
          <a:blip r:embed="rId1"/>
          <a:stretch/>
        </p:blipFill>
        <p:spPr>
          <a:xfrm>
            <a:off x="304920" y="3124080"/>
            <a:ext cx="4441680" cy="333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05520" y="533160"/>
            <a:ext cx="320040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e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3000"/>
            <a:ext cx="3352680" cy="4952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 organism that is killed and eaten by another org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117241668_b0bc62928c.jpg"/>
          <p:cNvPicPr/>
          <p:nvPr/>
        </p:nvPicPr>
        <p:blipFill>
          <a:blip r:embed="rId1"/>
          <a:stretch/>
        </p:blipFill>
        <p:spPr>
          <a:xfrm>
            <a:off x="4191120" y="22096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358164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roduc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562360" y="1218960"/>
            <a:ext cx="3352680" cy="342900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sms that can make their own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potted-plants.jpg"/>
          <p:cNvPicPr/>
          <p:nvPr/>
        </p:nvPicPr>
        <p:blipFill>
          <a:blip r:embed="rId1"/>
          <a:stretch/>
        </p:blipFill>
        <p:spPr>
          <a:xfrm>
            <a:off x="533520" y="2286000"/>
            <a:ext cx="43815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5280" y="122040"/>
            <a:ext cx="3581280" cy="14014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304560"/>
            <a:ext cx="3353040" cy="601956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sms that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make their own foo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They must eat other organisms to get their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117241668_b0bc62928c.jpg"/>
          <p:cNvPicPr/>
          <p:nvPr/>
        </p:nvPicPr>
        <p:blipFill>
          <a:blip r:embed="rId1"/>
          <a:stretch/>
        </p:blipFill>
        <p:spPr>
          <a:xfrm>
            <a:off x="6095880" y="365292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lown fish.jpg"/>
          <p:cNvPicPr/>
          <p:nvPr/>
        </p:nvPicPr>
        <p:blipFill>
          <a:blip r:embed="rId2"/>
          <a:stretch/>
        </p:blipFill>
        <p:spPr>
          <a:xfrm>
            <a:off x="4289400" y="435456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LM-wolves-(1024x768).jpg"/>
          <p:cNvPicPr/>
          <p:nvPr/>
        </p:nvPicPr>
        <p:blipFill>
          <a:blip r:embed="rId3"/>
          <a:stretch/>
        </p:blipFill>
        <p:spPr>
          <a:xfrm>
            <a:off x="4059360" y="236232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irds-of-north-america_T4868.jpg"/>
          <p:cNvPicPr/>
          <p:nvPr/>
        </p:nvPicPr>
        <p:blipFill>
          <a:blip r:embed="rId4"/>
          <a:stretch/>
        </p:blipFill>
        <p:spPr>
          <a:xfrm>
            <a:off x="6443640" y="1981080"/>
            <a:ext cx="2514600" cy="17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609120"/>
            <a:ext cx="8229600" cy="58676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re are four different kinds  of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onsumer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erb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arn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mn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-9144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etritivo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7339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. Carn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.jpg"/>
          <p:cNvPicPr/>
          <p:nvPr/>
        </p:nvPicPr>
        <p:blipFill>
          <a:blip r:embed="rId1"/>
          <a:stretch/>
        </p:blipFill>
        <p:spPr>
          <a:xfrm>
            <a:off x="3276720" y="1905120"/>
            <a:ext cx="2077920" cy="312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1760" y="5330520"/>
            <a:ext cx="7391160" cy="1523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organism that eats ONLY other animals (mea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73356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. Herb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5486400"/>
            <a:ext cx="8534160" cy="8380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only plant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j0262568.jpg"/>
          <p:cNvPicPr/>
          <p:nvPr/>
        </p:nvPicPr>
        <p:blipFill>
          <a:blip r:embed="rId1"/>
          <a:stretch/>
        </p:blipFill>
        <p:spPr>
          <a:xfrm>
            <a:off x="2209680" y="2057400"/>
            <a:ext cx="478800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380880"/>
            <a:ext cx="3733920" cy="140184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3. Omniv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5105160"/>
            <a:ext cx="7772400" cy="1523880"/>
          </a:xfrm>
          <a:prstGeom prst="rect">
            <a:avLst/>
          </a:prstGeom>
          <a:solidFill>
            <a:srgbClr val="92d05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n organism that eats BOTH plants and animals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brown-bear-sow-with-twins_4144.jpg"/>
          <p:cNvPicPr/>
          <p:nvPr/>
        </p:nvPicPr>
        <p:blipFill>
          <a:blip r:embed="rId1"/>
          <a:stretch/>
        </p:blipFill>
        <p:spPr>
          <a:xfrm>
            <a:off x="2286000" y="1905120"/>
            <a:ext cx="4702320" cy="31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1:34:05Z</dcterms:created>
  <dc:creator>Owner</dc:creator>
  <dc:description/>
  <dc:language>en-US</dc:language>
  <cp:lastModifiedBy>User</cp:lastModifiedBy>
  <cp:lastPrinted>2012-05-07T22:05:18Z</cp:lastPrinted>
  <dcterms:modified xsi:type="dcterms:W3CDTF">2014-05-06T14:55:50Z</dcterms:modified>
  <cp:revision>41</cp:revision>
  <dc:subject/>
  <dc:title>Predator</dc:title>
</cp:coreProperties>
</file>